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E9F3-CEFA-48C7-9750-6B28C3AEA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FBF2-BA76-4DA3-A2B5-F4432ED65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BFD2-BFBA-4F50-B597-81C46C184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C982-0017-479D-B69B-AF3D8B919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B347-2CF4-49B1-8B3F-8879FD634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7E6F-A756-4132-A77B-F1FAD9F06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BC51-E972-420B-8B74-2E1099749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BD06-AE15-40A0-A2FD-846538CC9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47DC-55CE-4EC4-9060-9BD28DCE5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D04F-3A07-479D-9C18-D6DC34A5F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96BE-B4F3-421B-8715-B19E03D0A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B90C-4CB6-4AB7-970D-798657BBE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DA11-AFC5-49FF-8C7F-CFBAA67CD3A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CISR-Cover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2590560"/>
            <a:ext cx="5905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mélioration du processus opérationel 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ation des diagramm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09680" y="50288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eptembre,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0A88-DF22-41F8-B460-1D1A3EED556C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Exemple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Super Pizz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250920" y="2951280"/>
          <a:ext cx="86421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951280"/>
                    <a:ext cx="86421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BB84-5853-49FF-B9C7-4D4CBF0E3046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hematization des val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é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ymb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Opé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Aut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truction le sh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65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F995-ECA7-414A-8572-28F3B18193FF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Schematization des valeu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iagramme premettant d’observer le processus à grande éch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onne un aperçu de la circulation du matériel et de l’information nécessaires pour livrer un produit ou un service au consommate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Les schémas représentant la situation actuelle et la situation future permettend d’avoir une vue d’ensemble de l’amélioration du processu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53CA-B9ED-46B1-819B-C74FFD3EFB6B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Dé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emps d’opération (T/O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– Le temps de travail réel effectué sur le dos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emps de cycle (T/C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– Le temps nécessaire pour que le dossier suivre les étapes du processus du début à fin, en l’absence d’invent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emande de correcti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– Le temps nécessaire pour faire une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7449-1583-4024-8513-F90EFCAEBE69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6"/>
          <p:cNvGraphicFramePr/>
          <p:nvPr/>
        </p:nvGraphicFramePr>
        <p:xfrm>
          <a:off x="1341360" y="2819520"/>
          <a:ext cx="71470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1360" y="2819520"/>
                    <a:ext cx="71470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7CDD-B0A6-4E17-A4DE-5590FE1EB217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utres symb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2411280" y="2133720"/>
          <a:ext cx="374508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133720"/>
                    <a:ext cx="37450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8AEA-0D90-4EED-B289-20941027D0CA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Construire le schè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116000" y="2276640"/>
          <a:ext cx="6912000" cy="38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76640"/>
                    <a:ext cx="691200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AEC9-6D21-4314-BE96-5B55D544B56A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emple</a:t>
            </a:r>
            <a:br>
              <a:rPr sz="4400"/>
            </a:b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Super Pizz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Problè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Après que Super Pizza a implémenter un promotion ‘30 minutes ou c’est gratuit’, on a reçu beaucoup de plaint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 a besoin de donner beaucoup de pizzas sans f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pizzas sont f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commandes ne sont pas correc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0EF5-9587-458B-858C-ECDCB54CE097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emple</a:t>
            </a:r>
            <a:br>
              <a:rPr sz="4400"/>
            </a:b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Super Pizz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Arial"/>
              </a:rPr>
              <a:t>Vos observation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Étape 1 - Réception prend 3 minutes pour recevoir un commande, mais attend pour avoir 5 commandes avant de donner à l'étape suiv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Étape 2 - Pizzas sont préparé sur mesure, en prenant 3 minutes pour construire chaque pizz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Étape 3 - Le four peut cuire 3 pizzas à la fois. Le temps de cuisson est de 3 minutes par 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Étape 4 - Le chauffeur attend pour 20 pizzas pour être prêt avant de livrer un lot. L'entreprise a mis cette politique à économiser de l'essence. Chaque voyage prend 30 minutes, mais le premier pizza est livrer en 10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2:15:45Z</dcterms:created>
  <dc:creator>Andrew Milne</dc:creator>
  <dc:description/>
  <dc:language>en-US</dc:language>
  <cp:lastModifiedBy>Mark Jarvis</cp:lastModifiedBy>
  <cp:lastPrinted>2006-06-15T21:11:50Z</cp:lastPrinted>
  <dcterms:modified xsi:type="dcterms:W3CDTF">2013-09-24T15:05:30Z</dcterms:modified>
  <cp:revision>708</cp:revision>
  <dc:subject/>
  <dc:title>PowerPoint Presentation</dc:title>
</cp:coreProperties>
</file>